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55B77-5B51-4D68-AB13-D32D2FF0A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7CAF4-6DAB-4E45-86BE-AB121A922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C2208-B3E6-4A1D-83E3-2580D5BCA8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08127-0058-4A8E-8FFD-97F7D14B98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B9186-F953-47F1-A943-8CC1B1199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E7B23-D971-4119-937F-CFC004569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F7E21-D119-4AAC-9B3E-B21BD6067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D5C6F-38C2-464F-8E7F-BEB8F0498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14872-FD61-49C3-B0BB-EABC6D9DC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E8554-E529-4869-9ADC-FAB638D61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FF006-8784-47CA-8019-E0B4A11B8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298C-45E1-493E-9838-8C39AF537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426F-5916-4A6C-B169-618A6486F5F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rammy.com/grammy-awards-critics-roundtabl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ammy Kritik Projek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Krit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152280" y="-360"/>
            <a:ext cx="8229600" cy="65530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ntergrund:  You and your partner are Grammy critics talking about the results of the 2014 Grammy’s.  This is a 2 – 5 minute TV spo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quiremen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 pictures from the Grammy’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inions on the winners/songs/performance or clothing choic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reement/disagreement on the winn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alk about why you liked certain songs (rhythm, singer’s voice, instruments) or certain outfits</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rn/lieber/am liebsten (all 3 must be mention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ut/besser/am besten (all 3 must be mention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hat do you think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 think…”</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bye</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will this be presented:</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and your partner will present this in front of the class while your pictures show in the background.  All pictures must be loaded on the google drive in presentation mode and shared with m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script needs to be handed in to me, as well.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will have one day in the computer lab to find pictures and information.  The script can be hand writte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kabeln</a:t>
            </a:r>
            <a:endParaRPr b="0" lang="en-US" sz="4400" spc="-1" strike="noStrike">
              <a:solidFill>
                <a:srgbClr val="000000"/>
              </a:solidFill>
              <a:latin typeface="Calibri"/>
            </a:endParaRPr>
          </a:p>
        </p:txBody>
      </p:sp>
      <p:sp>
        <p:nvSpPr>
          <p:cNvPr id="45" name=""/>
          <p:cNvSpPr txBox="1"/>
          <p:nvPr/>
        </p:nvSpPr>
        <p:spPr>
          <a:xfrm>
            <a:off x="76320" y="609480"/>
            <a:ext cx="8229600" cy="56390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ch bin damit (nicht) einverstanden.  - I agre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 sprechen über (+ akk).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 Rhythmus – rhythm</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uftakt – upbeat/ langsam – slow</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fit (n)– outfi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rstellung (f)- performanc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ed (n) – song</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egorie (f) – category</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ng des Jahr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este neue Kunstler</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este Album des Jahr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ie Beste Sänger des Jahr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este (Solo*) Performanz in ______________ Bereich</a:t>
            </a:r>
            <a:endParaRPr b="0" lang="en-US" sz="15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Pop</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ip Hop</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etal</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ock</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Duo/Gruppe*</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strumentalisches</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ap</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anz</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lternativ</a:t>
            </a:r>
            <a:endParaRPr b="0" lang="en-US" sz="1300" spc="-1" strike="noStrike">
              <a:solidFill>
                <a:srgbClr val="000000"/>
              </a:solidFill>
              <a:latin typeface="Calibri"/>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R und B</a:t>
            </a:r>
            <a:endParaRPr b="0" lang="en-US" sz="13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este Album in ____________ Bereich</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9T15:29:56Z</dcterms:created>
  <dc:creator>tmsadmin</dc:creator>
  <dc:description/>
  <dc:language>en-US</dc:language>
  <cp:lastModifiedBy>tmsadmin</cp:lastModifiedBy>
  <dcterms:modified xsi:type="dcterms:W3CDTF">2014-01-29T16:11:13Z</dcterms:modified>
  <cp:revision>7</cp:revision>
  <dc:subject/>
  <dc:title>Grammy Kritik Projekt</dc:title>
</cp:coreProperties>
</file>